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8A6-ED81-46D0-B1DB-285A4307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E8D-A4D8-4675-8FF7-10D53F60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FF3-8B65-43B8-9724-88C599D8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9D7-DA90-428B-868D-523F4C79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B4E-FB3C-4CEA-93CC-3C89EFF8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5E4-9FF3-4436-BB3B-D293164E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25F-B15C-4A1F-BF5F-09F64605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E44-C229-4F6B-B850-1CC37ED7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71D-41C4-4647-8089-EE6D145D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905-9DCA-439A-A8B6-636BD6C5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C88F-26BE-4C6D-80D0-2F06E65A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01D-0D53-4708-BA38-49044A21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79DE-2631-4617-8E94-98BD5AC69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09/25/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onde en oraciones comp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d. sociable o tímido/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d. alto/a o bajo/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on Uds. franceses o norteameric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on Uds. ricos o pob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sted una persona alegre o tri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191120" y="304920"/>
            <a:ext cx="4724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Arial"/>
              </a:rPr>
              <a:t>L.O: to recall last year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: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un 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76320" y="2544840"/>
            <a:ext cx="14475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cu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371600" y="236232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leg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2895480" y="1143000"/>
            <a:ext cx="1135080" cy="170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3962520" y="1143000"/>
            <a:ext cx="1171440" cy="1676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2971800" y="266688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rofesor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971800" y="304812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aestro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4"/>
          <a:stretch/>
        </p:blipFill>
        <p:spPr>
          <a:xfrm>
            <a:off x="5567400" y="1098720"/>
            <a:ext cx="1824120" cy="1415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2"/>
          <p:cNvSpPr/>
          <p:nvPr/>
        </p:nvSpPr>
        <p:spPr>
          <a:xfrm>
            <a:off x="5638680" y="2438280"/>
            <a:ext cx="17528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alumn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486400" y="2895480"/>
            <a:ext cx="21337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tudi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5"/>
          <a:stretch/>
        </p:blipFill>
        <p:spPr>
          <a:xfrm>
            <a:off x="228600" y="3581280"/>
            <a:ext cx="2109960" cy="1071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7543800" y="262080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ochi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6"/>
          <a:stretch/>
        </p:blipFill>
        <p:spPr>
          <a:xfrm>
            <a:off x="2743200" y="3657600"/>
            <a:ext cx="130176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7"/>
          <a:stretch/>
        </p:blipFill>
        <p:spPr>
          <a:xfrm>
            <a:off x="7772400" y="914400"/>
            <a:ext cx="1093680" cy="160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"/>
          <p:cNvPicPr/>
          <p:nvPr/>
        </p:nvPicPr>
        <p:blipFill>
          <a:blip r:embed="rId8"/>
          <a:stretch/>
        </p:blipFill>
        <p:spPr>
          <a:xfrm>
            <a:off x="5867280" y="35053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9"/>
          <a:stretch/>
        </p:blipFill>
        <p:spPr>
          <a:xfrm>
            <a:off x="4267080" y="3733920"/>
            <a:ext cx="1685880" cy="154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10"/>
          <a:stretch/>
        </p:blipFill>
        <p:spPr>
          <a:xfrm>
            <a:off x="7696080" y="3657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3"/>
          <p:cNvSpPr/>
          <p:nvPr/>
        </p:nvSpPr>
        <p:spPr>
          <a:xfrm>
            <a:off x="533520" y="4648320"/>
            <a:ext cx="1447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us esco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2590920" y="5410080"/>
            <a:ext cx="16761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uade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4648320" y="495288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ápi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6400800" y="48006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lu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7848720" y="5334120"/>
            <a:ext cx="1143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ib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1143000" y="6019920"/>
            <a:ext cx="7010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Verdana"/>
              </a:rPr>
              <a:t>Materiales Escola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7318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I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 el adjet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33360" y="1523880"/>
            <a:ext cx="1647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1716120" cy="2209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343400" y="1447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4"/>
          <a:stretch/>
        </p:blipFill>
        <p:spPr>
          <a:xfrm>
            <a:off x="6705720" y="1447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5"/>
          <a:stretch/>
        </p:blipFill>
        <p:spPr>
          <a:xfrm>
            <a:off x="380880" y="4446720"/>
            <a:ext cx="1524240" cy="1496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6"/>
          <a:stretch/>
        </p:blipFill>
        <p:spPr>
          <a:xfrm>
            <a:off x="2378160" y="4267080"/>
            <a:ext cx="135576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7"/>
          <a:stretch/>
        </p:blipFill>
        <p:spPr>
          <a:xfrm>
            <a:off x="4390920" y="4419720"/>
            <a:ext cx="1857600" cy="1698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8"/>
          <a:stretch/>
        </p:blipFill>
        <p:spPr>
          <a:xfrm>
            <a:off x="6819840" y="4343400"/>
            <a:ext cx="1762200" cy="2114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695880" y="36115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F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666880" y="36115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u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4953960" y="36576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F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323400" y="361152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uapa/Bon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306000" y="60498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có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2287440" y="612612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cóm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4714200" y="61261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se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7164360" y="62784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s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906768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III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a con una palabra apropi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escuela secundaria en México es un 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sa saca buenas notas y estudia mucho. Ella es 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o saca una F en ciencia. Él es un estudiante muy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IV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appropriate words and e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 alumn___ es una buen___ ami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______ curso de educación física es bastante fácil pero ______ cursos de historia y ciencia son difícil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______ alumnos en mi clase de matemáticas son muy inteligent____ y cómic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56:50Z</dcterms:created>
  <dc:creator>Helen Zumaeta</dc:creator>
  <dc:description/>
  <dc:language>en-US</dc:language>
  <cp:lastModifiedBy>Helen Zumaeta</cp:lastModifiedBy>
  <cp:lastPrinted>2015-09-25T15:03:41Z</cp:lastPrinted>
  <dcterms:modified xsi:type="dcterms:W3CDTF">2015-09-25T17:21:42Z</dcterms:modified>
  <cp:revision>16</cp:revision>
  <dc:subject/>
  <dc:title>Me llamo _________         Clase 6NH/IL La fecha es el 16 de diciembre del 2010</dc:title>
</cp:coreProperties>
</file>